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F24-FB79-49BA-A9F2-AD47D622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C7B-8CD9-4784-9D04-AE91A07D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B8B-AE37-45C4-88C4-C1A0CD13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835-D7CF-4377-8054-A82A438B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81EC-E074-486A-9998-74E0AD0B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CD6C-6216-4EDE-92B1-4D1CBC8A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FAF4-225C-46FA-ADF5-55034DAB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CE0E-ED3D-4BB5-A4F0-5BBF02E1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F4A3-76F7-4ABA-B35B-19993A32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40A6-2E20-4F5F-95D6-E8C4F842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000D-1F83-4F3C-8A1F-0E711712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9D2-D9AE-4036-8DD7-E58BFC9C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CF92-2F66-4356-AD63-7DE3FF9F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AB75-F5A7-4D6D-A3DE-362C0D71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87D2-BACA-4ED9-9D0A-D1B428E5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2C0F-2092-4BC9-BA77-A3410520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EFA8-C95A-4E76-8C6F-B71713BA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E3E-8BEB-4058-8619-23C3E8FA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C4C-298D-4982-B127-3AEA84E8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C9E-ACBB-45F3-A833-DCA51B32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794-DAA4-42B4-BE19-7549D662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F34-5856-4000-B9D9-6DF7F6C5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42D-0E71-4185-8009-70730FD1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70F-E995-44D1-AB96-5BB61EFA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7B46-208B-4837-BBA8-A87A3CC3BB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2"/>
          <a:srcRect l="0" t="0" r="117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3962-55D7-42AA-BF38-0B88C5CC314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971640" y="148428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坚持问题导向  理清工作思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探索供销合作社电子商务发展道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95640" y="3860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省供销社综合业务处     刘昌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278600" y="510696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15.8.1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崇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微软雅黑"/>
              </a:rPr>
              <a:t>突出重点，夯实县域电商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内容占位符 4" descr="1432195970883.jpg"/>
          <p:cNvPicPr/>
          <p:nvPr/>
        </p:nvPicPr>
        <p:blipFill>
          <a:blip r:embed="rId1"/>
          <a:stretch/>
        </p:blipFill>
        <p:spPr>
          <a:xfrm>
            <a:off x="468360" y="2133720"/>
            <a:ext cx="4038480" cy="3030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IMG_7638 选用"/>
          <p:cNvPicPr/>
          <p:nvPr/>
        </p:nvPicPr>
        <p:blipFill>
          <a:blip r:embed="rId2"/>
          <a:stretch/>
        </p:blipFill>
        <p:spPr>
          <a:xfrm>
            <a:off x="4573440" y="2205000"/>
            <a:ext cx="4175280" cy="2952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828720" y="52434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崇州市电子商务运营服务中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373720" y="525780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泸县农村电子商务服务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67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微软雅黑"/>
              </a:rPr>
              <a:t>多种模式，开展电子商务业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自建电子商务平台：射洪县、青川县、西昌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借助第三方平台开设网店：中江县、华蓥市、高县、通江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建平台与借助第三方平台相结合：崇州市、泸县、梓潼县、安县、武胜县、开江县、高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53964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各方面给予充分肯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55640" y="162864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王东明书记考察了内江市供销社电子商务工作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黄彦蓉副省长考察了四川省农村电子商务研究所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央视《新闻联播》报道中江县仕兴养蜂专业合作社电子商务运行模式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绵阳、内江市委书记到供销社电子商务公司现场考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6360" y="98100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592800" cy="2392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684360" y="429264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黄彦蓉（中）副省长一行视察电商孵化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4788000" y="2565360"/>
            <a:ext cx="3744720" cy="2392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4902120" y="5172120"/>
            <a:ext cx="34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央视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新闻联播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报道中江县仕兴养蜂专业合作社电子商务运行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党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大力支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射洪、泸县承担了电子商务进农村国家试点项目，负责农村经营网点的信息化改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开江、青川、丹棱等县供销社分别得到政府拨付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平方米以上场地，用于建设电子商务运营服务中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高县供销社争取政府支持电子商务发展，拿回了因社员股金抵押给国资委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平方米门市，并拨付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万元资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华蓥市、武胜县地方政府分别为供销社免费提供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7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平方办公场地及网络等配套设施、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平方办公场地支持供销社发展电子商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半年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省系统已落实到位地方财政支持资金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93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万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109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一是探索出农村电子商务工作推进机制：明确了与党政相关部门的关系，找到了供销社电子商务工作定位，拓宽了工作平台空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二是总结汉源燕山红专业合作社农产品电子商务团队组建体制、运营机制和风险共担模式：解决了投入、汇报、可持续等一系列关键问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三是四川农村电子商务研究所的孵化模式：破解了供销社发展电子商务的人才、技术瓶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061720" y="692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  <a:ea typeface="华文中宋"/>
              </a:rPr>
              <a:t>对供销社电子商务发展的三大贡献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692360" y="1125360"/>
            <a:ext cx="446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存在的主要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332080" y="2652840"/>
            <a:ext cx="3198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认识上不到位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行动上有偏差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体制、机制上的老套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个别示范县消极怠工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台推广不力，交易规模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2170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认识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8704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是安于现状，抱残守缺。认为传统经营业务还过得去，没有必要搞电子商务，或者不急于做电子商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是认识上的两个极端：一种认为发展电子商务就是做淘宝、京东之类的大型第三方平台，是烧钱，不敢做；另一种认为开个网店就是供销社电子商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19540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行动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是不切实际，盲目发展。上级供销社和地方政府号召发展电子商务，搞互联网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就不结合自身实际，盲目规划，盲目投资，埋下隐患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二是申请示范县积极，行动不积极，停留在研究、论证、思考阶段，存在等、靠、要得思想，给钱就做，没钱就不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专业合作社积极行动，创新发展，成效显著；企业网上开店，“触电”，有所行动；供销社观望、研究，就是不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全省看，表现为区域发展不平衡。个别市州电子商务交易额是空白。在那里，供销社与电子商务无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901800"/>
            <a:ext cx="67071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微软雅黑"/>
              </a:rPr>
              <a:t>体制、机制不灵活，习惯性沿用老模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17720"/>
            <a:ext cx="822960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是新组建电子商务企业，供销社一股独大，最后一切由县供销社主任说了算，企业没有活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是机制不灵活，经营者无动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是招一批工作人员，企业负担沉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前     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7284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这次会议，主要任务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对今年以来的电子商务工作进行总结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通过现场参观、交流发言，相互学习借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主动探索，进一步理清工作思路，使供销社电子商务的发展方向不偏离、路径更简捷、步伐更坚实、成效更显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619308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平台宣传、推广不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3357360"/>
            <a:ext cx="8364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影响力不大，网上交易量增长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665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下一步工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7432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结合制定“十三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五”规划，深入研究供销社传统业务未来发展战略、发展路径，确立电子商务在传统业务升级转型中，不可或缺的独特作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重点：农村、农产品电子商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短板：农村物流需要强化。解决农产品进城“最先一公里”、工业品下乡“最后一公里”问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优势：供销社的一、二、三产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"/>
          <p:cNvSpPr/>
          <p:nvPr/>
        </p:nvSpPr>
        <p:spPr>
          <a:xfrm>
            <a:off x="1187280" y="260280"/>
            <a:ext cx="30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Calibri"/>
              </a:rPr>
              <a:t>重视发展电子商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Arial"/>
              </a:rPr>
              <a:t>把握好六个方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紧跟时代、顺势而为：推进“互联网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供销社”，就是促进传统业务与电子商务融合发展，以供销社产业为基础，打造网上供销合作社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融入党政、借力发展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争取地方政府支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参与商务部门主抓的电子商务进农村试点项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投资适量、有效：避免投资盲目贪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直面挑战、创新发展：以股权联接、业务合作方式，组建运营团队，激发内生动力，增强活力，确保可持续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整合资源、完善功能：整合就业培训等部门政策资源，整合水、电、通信、金融、保险等行业服务资源，充实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整合项目资金：规划、培育项目与发展电子商务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年初，省社提出的主要工作目标、任务不变：投资完成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亿元；交易额增长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倍；“触电”单位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；信息化改造网点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；培训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00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人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市州高度关注、分析统计数据，掌握工作进度，明白变化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1359000" y="539640"/>
            <a:ext cx="26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锁定工作目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41148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Arial"/>
              </a:rPr>
              <a:t>全力做好平台推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964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多种方式，多种渠道，做好平台推广、运用，提高知名度，提升流量，增加交易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是在四川合作经济网做超链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是供销社每一位同志都是平台推广员，利用大家的微信、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QQ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等推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是对接总社平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四是利用第三方知名平台推广、销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今年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底，总社电子商务公司已完成注册，总社电子商务平台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正式上线，全省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示范县必须首批对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总社电子商务公司正在全国范围内，摸底调查特色产品，要求一县推一品。会后，我们将发调查表，请市州供销社负责收集、汇总产品基本信息，包括供货时间、供货量、交易价格、供货单位、联系人、联系方式及产品荣誉、产品特色介绍等信息。于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日前报送省社业务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请每个县推荐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—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品种：供销社控股企业或投资领办专业合作社生产的产品；产品最具县域特色；便于网上销售；产品质量第一责任人为县供销社主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"/>
          <p:cNvSpPr/>
          <p:nvPr/>
        </p:nvSpPr>
        <p:spPr>
          <a:xfrm>
            <a:off x="1258920" y="33480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与总社平台对接工作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471680" y="2533680"/>
            <a:ext cx="61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微软雅黑"/>
              </a:rPr>
              <a:t>农 综 项 目 工 作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750680"/>
            <a:ext cx="82296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初步考虑，将验收工作下放到市州供销社，我们只抽查、复核部分项目。请各市州供销社督促所属项目，加快进度，按时、保质完成任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256920" y="83664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2014</a:t>
            </a: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年农综项目验收问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79400"/>
            <a:ext cx="822960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015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年实施计划已上报，等待全国供销总社批复，原则上上报计划不会变动。审核中，发现问题会及时通知修改、完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项目主管供销社督促项目单位，抓紧做好规划、设计、邀标比选等开工前期准备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486520" y="909720"/>
            <a:ext cx="34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2015</a:t>
            </a: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年度农综项目实施工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55640" y="1628640"/>
            <a:ext cx="784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市州、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县供销社分别受地方政府委托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成为区域电子商务发展牵头单位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新成立电子商务公司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家，已建成区域性电子商务平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，建立电子商务运营服务中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，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信息化改造基层经营服务网点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199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半年，发展电子商务，全省系统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投资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6000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多万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半年，开展电子商务培训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90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余人次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前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全省系统电子商务交易额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2.05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亿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元，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同比增长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758.46%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613160" y="765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最新统计调查表明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41520" y="1268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总社要求，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日前报送土地托管项目摸底情况。我们早在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下旬已安排各地调查。已经收到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项目，大部分有问题，市州供销社没有认真把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摸底调查基础上，最近，我处将对基础较好的项目进行重点指导，做好项目培育，提高申报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培育项目要与县域电子商务发展结合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256920" y="40464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2016</a:t>
            </a: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年农综项目申报工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土地托管项目规划、培育、申报注意事项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7280" y="1197000"/>
            <a:ext cx="8856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是申报单位：供销社持股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5%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以上，并为第一大股东，具有较强控制力的为农服务企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是服务对象：以专业合作社等新型农业生产经营主体为主要对象，分散的农户要通过村两委或其他法人来组织协调、调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是服务方式：以半托管为主，全托管占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5—10%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四是坚持农村基本经营制度，农民在生产中的经营、投资主体地位不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五是依法、自愿、有偿：签约、收费服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六是不改变土地用途，重点支持大田作物土地托管：在竞争立项中，优先支持大田作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141264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50"/>
                </a:solidFill>
                <a:latin typeface="Arial"/>
              </a:rPr>
              <a:t>            </a:t>
            </a: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谢谢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780720" y="246060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省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市州、县供销社所采取的措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44640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省供销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元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成立四川省农村电子商务研究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日，在泸州市培训市州、县级供销社电子商务负责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对泸县、崇州电子商务发展进行多次现场指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在省商贸校开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期电子商务培训班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在四川合作经济网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开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设电子商务专栏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启动了电子商务工作试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在内江市，召开了农产品电子商务推进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开展了电子商务工作专题调研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与省商务厅进行了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工作沟通，参加了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商务系统电子商务会议，联合调研四川省农村电子商务研究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与邮政、电信、保险签订战略合作协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28083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市、州供销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720" y="2149200"/>
            <a:ext cx="8290080" cy="29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市州供销社召开了专题会议，及时传达贯彻了省社关于电子商务工作的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内江、凉山、绵阳、巴中新建电子商务平台，广元改造提升了电子商务平台，遂宁在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内江、泸州市积极争取党政支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供销社电子商务工作纳入政府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665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范县工作亮点纷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95280" y="220500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泸县供销社主动作为、加强协调、争取支持，形成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政府主导、商务主管、供销主抓、部门配合、企业主体、市场运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的农村电子商务工作推进机制。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现在已经上升为泸州全市农村电子商务工作推进机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48000" y="83664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泸县创新农村电子商务工作推进机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539640" y="1916280"/>
            <a:ext cx="835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汉源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县燕山红大樱桃专业合作社，破解了发展电子商务的关键问题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体制、机制，闯出了一条可持续发展之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寻找合作伙伴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农产品电子商务营销团队，为我所用，扩大农产品销售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股权联结，组建电子商务公司，实现利益联结。不是劳动关系，企业无后顾之忧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产品定价：风险与回报挂钩，搞活了机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399760" y="7650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创新电子商务发展的体制、机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5T10:29:08Z</dcterms:created>
  <dc:creator>YQ</dc:creator>
  <dc:description/>
  <cp:keywords/>
  <dc:language>en-US</dc:language>
  <cp:lastModifiedBy>lcd631006</cp:lastModifiedBy>
  <dcterms:modified xsi:type="dcterms:W3CDTF">2015-08-11T17:35:49Z</dcterms:modified>
  <cp:revision>101</cp:revision>
  <dc:subject/>
  <dc:title>梓潼县供销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