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2CC-E4A6-43FC-ABD5-3A05D45F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BDD-3889-4E17-8C53-B98A385F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F0F-42A1-4716-A486-E332C9FE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D24-50A1-4ADB-9017-E6C96BDC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BF12-CF12-4561-8C6D-B8ED68C9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62D7-25F7-4BAB-9558-57EC0AB2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3E95-A216-4E8E-97CD-7FCD8817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AEF7-3F72-437D-A528-5F754F82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6716-B637-4F82-BFD7-BED3009C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575C-D879-4187-B3E8-7A5428E8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486D-A7DD-4DA3-905B-8BD6E84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2E1-4040-4F94-8AE0-FF3EA178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10BC-2CB3-4E81-B8A9-02BC5B8A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3293-1FBB-4C93-8827-55DC0F41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7823-6F65-4E00-BDFF-5BC799D1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BDDE-B8CE-45A9-8BEA-406B4D4D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4C3B-341C-4019-B08B-93B84F7F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E25C-3393-40C0-A73E-A347E9D5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6EA0D-B314-4FAD-AC3B-7D2F2011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9F587-0EAC-49B5-9145-84868235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F6FE5-B0BE-4CFF-BBC7-558ED561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39363-DE66-45DA-A09A-8C667D82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630-44D5-4005-A364-03B87783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F81CE-ADFB-48D3-BAF1-CBBC754E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0AAA2-6123-4211-959B-A2F1D4E0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88CB-A2C0-4F73-A451-ABF083F5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E00B-5817-4739-806F-0C942A70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9AEBE-96B1-428B-BB18-5E4215A8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A9C1-D739-42BA-BE14-C17B29C0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9F1A-9BDF-40F7-A8B2-5C4F86A9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906F9-81EC-4B61-BF3A-934BBF14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9F7DF-B5C1-49B6-BC77-8CCD565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47EBF-8445-4BBF-91F3-CADD7259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9B8-C1CB-49DC-8C13-142B262B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D7967-A298-4BFD-A787-C3EF6513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140B-63D8-4D8D-8565-AAE19DD8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D4E26-2BEB-475E-937A-27E740EE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5420-C2BD-435C-8677-90DB9721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606F5-8EEA-4569-B832-638415C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2C00-441E-47D2-952F-94E71C0F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7C5E9-39C2-4535-9E47-08251B9E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9BD8-4AC3-4B93-83CB-BFC9CE1A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D1AAF-D318-46A4-90AD-E627699A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4D8-3CCC-452E-938D-9ABD11E3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124-740D-4E8F-8460-A1E34A11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98D-ADDD-4FE5-981D-5917E5A2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C8A-48F9-4005-BC88-B4EFAE9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263-46D2-4CC9-BFC0-8EAD89BF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DD6F-6444-46C7-AF4A-797B4020AAE8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C114-B98D-4DB7-AE64-98B754D34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rcRect l="11905" t="0" r="8192" b="0"/>
          <a:stretch/>
        </p:blipFill>
        <p:spPr>
          <a:xfrm>
            <a:off x="0" y="792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870a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C247-B299-49C6-B836-866381333A48}" type="slidenum"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3b40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ce382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11905" t="0" r="8192" b="0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3000" y="1503000"/>
            <a:ext cx="6156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870a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F9FC-01D0-404A-B82F-0DAFD3AC8466}" type="slidenum"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9d2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  <a:p>
            <a:pPr lvl="1" indent="0" algn="ctr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3f4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414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4143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f4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f414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4400" y="2709720"/>
            <a:ext cx="597852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3b40d"/>
                </a:solidFill>
                <a:latin typeface="Arial Black"/>
                <a:ea typeface="宋体"/>
              </a:rPr>
              <a:t>电  子  商  务</a:t>
            </a:r>
            <a:endParaRPr b="1" lang="en-US" sz="66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5662080"/>
            <a:ext cx="87487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9bc0e"/>
                </a:solidFill>
                <a:latin typeface="微软雅黑"/>
                <a:ea typeface="微软雅黑"/>
              </a:rPr>
              <a:t>二〇一五年八月                         王小刚</a:t>
            </a:r>
            <a:endParaRPr b="0" lang="en-US" sz="2800" spc="-1" strike="noStrike">
              <a:solidFill>
                <a:srgbClr val="949d23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08040" y="549360"/>
            <a:ext cx="8018280" cy="802800"/>
            <a:chOff x="608040" y="549360"/>
            <a:chExt cx="8018280" cy="802800"/>
          </a:xfrm>
        </p:grpSpPr>
        <p:sp>
          <p:nvSpPr>
            <p:cNvPr id="170" name="椭圆 9"/>
            <p:cNvSpPr/>
            <p:nvPr/>
          </p:nvSpPr>
          <p:spPr>
            <a:xfrm>
              <a:off x="755280" y="549360"/>
              <a:ext cx="330120" cy="329400"/>
            </a:xfrm>
            <a:prstGeom prst="ellipse">
              <a:avLst/>
            </a:prstGeom>
            <a:solidFill>
              <a:srgbClr val="c7e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5"/>
            <p:cNvSpPr/>
            <p:nvPr/>
          </p:nvSpPr>
          <p:spPr>
            <a:xfrm>
              <a:off x="608040" y="642240"/>
              <a:ext cx="657000" cy="655920"/>
            </a:xfrm>
            <a:prstGeom prst="ellipse">
              <a:avLst/>
            </a:prstGeom>
            <a:noFill/>
            <a:ln w="6480">
              <a:solidFill>
                <a:srgbClr val="aed7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6"/>
            <p:cNvSpPr/>
            <p:nvPr/>
          </p:nvSpPr>
          <p:spPr>
            <a:xfrm>
              <a:off x="703080" y="737640"/>
              <a:ext cx="466560" cy="465840"/>
            </a:xfrm>
            <a:prstGeom prst="ellipse">
              <a:avLst/>
            </a:prstGeom>
            <a:noFill/>
            <a:ln w="12600">
              <a:solidFill>
                <a:srgbClr val="a5d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7"/>
            <p:cNvSpPr/>
            <p:nvPr/>
          </p:nvSpPr>
          <p:spPr>
            <a:xfrm>
              <a:off x="734760" y="769320"/>
              <a:ext cx="403200" cy="402480"/>
            </a:xfrm>
            <a:prstGeom prst="ellipse">
              <a:avLst/>
            </a:prstGeom>
            <a:noFill/>
            <a:ln w="6480">
              <a:solidFill>
                <a:srgbClr val="d0e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8"/>
            <p:cNvSpPr/>
            <p:nvPr/>
          </p:nvSpPr>
          <p:spPr>
            <a:xfrm>
              <a:off x="818640" y="854640"/>
              <a:ext cx="233640" cy="23256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标题 5"/>
            <p:cNvSpPr/>
            <p:nvPr/>
          </p:nvSpPr>
          <p:spPr>
            <a:xfrm>
              <a:off x="1187640" y="837000"/>
              <a:ext cx="238716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 Black"/>
                  <a:ea typeface="微软雅黑"/>
                </a:rPr>
                <a:t>四川省供销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9"/>
            <p:cNvSpPr/>
            <p:nvPr/>
          </p:nvSpPr>
          <p:spPr>
            <a:xfrm>
              <a:off x="8296200" y="631080"/>
              <a:ext cx="330120" cy="329400"/>
            </a:xfrm>
            <a:prstGeom prst="ellipse">
              <a:avLst/>
            </a:prstGeom>
            <a:solidFill>
              <a:srgbClr val="c7e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5"/>
            <p:cNvSpPr/>
            <p:nvPr/>
          </p:nvSpPr>
          <p:spPr>
            <a:xfrm>
              <a:off x="7818480" y="696240"/>
              <a:ext cx="657000" cy="655920"/>
            </a:xfrm>
            <a:prstGeom prst="ellipse">
              <a:avLst/>
            </a:prstGeom>
            <a:noFill/>
            <a:ln w="6480">
              <a:solidFill>
                <a:srgbClr val="aed7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6"/>
            <p:cNvSpPr/>
            <p:nvPr/>
          </p:nvSpPr>
          <p:spPr>
            <a:xfrm>
              <a:off x="7913880" y="791640"/>
              <a:ext cx="466560" cy="465840"/>
            </a:xfrm>
            <a:prstGeom prst="ellipse">
              <a:avLst/>
            </a:prstGeom>
            <a:noFill/>
            <a:ln w="12600">
              <a:solidFill>
                <a:srgbClr val="a5d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7"/>
            <p:cNvSpPr/>
            <p:nvPr/>
          </p:nvSpPr>
          <p:spPr>
            <a:xfrm>
              <a:off x="7945560" y="822960"/>
              <a:ext cx="403200" cy="402480"/>
            </a:xfrm>
            <a:prstGeom prst="ellipse">
              <a:avLst/>
            </a:prstGeom>
            <a:noFill/>
            <a:ln w="6480">
              <a:solidFill>
                <a:srgbClr val="d0e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8"/>
            <p:cNvSpPr/>
            <p:nvPr/>
          </p:nvSpPr>
          <p:spPr>
            <a:xfrm>
              <a:off x="8029440" y="908640"/>
              <a:ext cx="233640" cy="2325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标题 5"/>
            <p:cNvSpPr/>
            <p:nvPr/>
          </p:nvSpPr>
          <p:spPr>
            <a:xfrm>
              <a:off x="5364720" y="837000"/>
              <a:ext cx="238716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 Black"/>
                  <a:ea typeface="微软雅黑"/>
                </a:rPr>
                <a:t>崇州现场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9" name=""/>
          <p:cNvCxnSpPr/>
          <p:nvPr/>
        </p:nvCxnSpPr>
        <p:spPr>
          <a:xfrm>
            <a:off x="2343240" y="2346120"/>
            <a:ext cx="505440" cy="1080"/>
          </a:xfrm>
          <a:prstGeom prst="straightConnector1">
            <a:avLst/>
          </a:prstGeom>
          <a:ln w="38160">
            <a:solidFill>
              <a:srgbClr val="7f80c0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108000" y="668160"/>
            <a:ext cx="892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营造一个生态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90520" y="2130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政府推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33640" y="2122560"/>
            <a:ext cx="44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供销社电子商务向农村电子商务跨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/>
          <p:nvPr/>
        </p:nvCxnSpPr>
        <p:spPr>
          <a:xfrm>
            <a:off x="2612520" y="2903040"/>
            <a:ext cx="50580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1460520" y="268776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商务主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267984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把握好各自的职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/>
          <p:nvPr/>
        </p:nvCxnSpPr>
        <p:spPr>
          <a:xfrm>
            <a:off x="2884320" y="3460320"/>
            <a:ext cx="504000" cy="1080"/>
          </a:xfrm>
          <a:prstGeom prst="straightConnector1">
            <a:avLst/>
          </a:prstGeom>
          <a:ln w="38160">
            <a:solidFill>
              <a:srgbClr val="ffcc66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731960" y="3244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供销主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73280" y="3236760"/>
            <a:ext cx="44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有为才有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/>
          <p:nvPr/>
        </p:nvCxnSpPr>
        <p:spPr>
          <a:xfrm>
            <a:off x="3154320" y="4017600"/>
            <a:ext cx="505440" cy="1080"/>
          </a:xfrm>
          <a:prstGeom prst="straightConnector1">
            <a:avLst/>
          </a:prstGeom>
          <a:ln w="38160">
            <a:solidFill>
              <a:srgbClr val="00ccff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2001960" y="380196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部门配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45080" y="37940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社会广泛支持和认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/>
          <p:nvPr/>
        </p:nvCxnSpPr>
        <p:spPr>
          <a:xfrm>
            <a:off x="3425760" y="4503240"/>
            <a:ext cx="504000" cy="1080"/>
          </a:xfrm>
          <a:prstGeom prst="straightConnector1">
            <a:avLst/>
          </a:prstGeom>
          <a:ln w="38160">
            <a:solidFill>
              <a:srgbClr val="83b40d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2273400" y="42879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企业主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14720" y="428004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经营性和公益性相结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/>
          <p:nvPr/>
        </p:nvCxnSpPr>
        <p:spPr>
          <a:xfrm>
            <a:off x="3711600" y="5006520"/>
            <a:ext cx="505440" cy="1080"/>
          </a:xfrm>
          <a:prstGeom prst="straightConnector1">
            <a:avLst/>
          </a:prstGeom>
          <a:ln w="38160">
            <a:solidFill>
              <a:srgbClr val="ff00ff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2558880" y="4791240"/>
            <a:ext cx="12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市场运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02000" y="478296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市场法则高于一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MH_Other_16"/>
          <p:cNvSpPr/>
          <p:nvPr/>
        </p:nvSpPr>
        <p:spPr>
          <a:xfrm>
            <a:off x="2700360" y="4149720"/>
            <a:ext cx="3744720" cy="2160720"/>
          </a:xfrm>
          <a:custGeom>
            <a:avLst/>
            <a:gdLst/>
            <a:ahLst/>
            <a:rect l="l" t="t" r="r" b="b"/>
            <a:pathLst>
              <a:path w="2809" h="1853">
                <a:moveTo>
                  <a:pt x="2561" y="175"/>
                </a:moveTo>
                <a:cubicBezTo>
                  <a:pt x="2314" y="0"/>
                  <a:pt x="2066" y="106"/>
                  <a:pt x="1768" y="166"/>
                </a:cubicBezTo>
                <a:cubicBezTo>
                  <a:pt x="1470" y="226"/>
                  <a:pt x="1056" y="194"/>
                  <a:pt x="759" y="113"/>
                </a:cubicBezTo>
                <a:cubicBezTo>
                  <a:pt x="461" y="31"/>
                  <a:pt x="210" y="188"/>
                  <a:pt x="210" y="188"/>
                </a:cubicBezTo>
                <a:cubicBezTo>
                  <a:pt x="69" y="326"/>
                  <a:pt x="0" y="442"/>
                  <a:pt x="53" y="624"/>
                </a:cubicBezTo>
                <a:cubicBezTo>
                  <a:pt x="107" y="805"/>
                  <a:pt x="122" y="918"/>
                  <a:pt x="91" y="1122"/>
                </a:cubicBezTo>
                <a:cubicBezTo>
                  <a:pt x="60" y="1326"/>
                  <a:pt x="0" y="1445"/>
                  <a:pt x="194" y="1649"/>
                </a:cubicBezTo>
                <a:cubicBezTo>
                  <a:pt x="389" y="1853"/>
                  <a:pt x="755" y="1815"/>
                  <a:pt x="991" y="1780"/>
                </a:cubicBezTo>
                <a:cubicBezTo>
                  <a:pt x="1226" y="1746"/>
                  <a:pt x="1429" y="1715"/>
                  <a:pt x="1636" y="1737"/>
                </a:cubicBezTo>
                <a:cubicBezTo>
                  <a:pt x="1843" y="1758"/>
                  <a:pt x="2198" y="1827"/>
                  <a:pt x="2439" y="1746"/>
                </a:cubicBezTo>
                <a:cubicBezTo>
                  <a:pt x="2730" y="1646"/>
                  <a:pt x="2740" y="1395"/>
                  <a:pt x="2696" y="1273"/>
                </a:cubicBezTo>
                <a:cubicBezTo>
                  <a:pt x="2652" y="1150"/>
                  <a:pt x="2630" y="1041"/>
                  <a:pt x="2683" y="834"/>
                </a:cubicBezTo>
                <a:cubicBezTo>
                  <a:pt x="2737" y="627"/>
                  <a:pt x="2809" y="351"/>
                  <a:pt x="2561" y="175"/>
                </a:cubicBezTo>
              </a:path>
            </a:pathLst>
          </a:custGeom>
          <a:solidFill>
            <a:srgbClr val="bd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H_Other_16"/>
          <p:cNvSpPr/>
          <p:nvPr/>
        </p:nvSpPr>
        <p:spPr>
          <a:xfrm>
            <a:off x="5292720" y="1771560"/>
            <a:ext cx="3095640" cy="1944720"/>
          </a:xfrm>
          <a:custGeom>
            <a:avLst/>
            <a:gdLst/>
            <a:ahLst/>
            <a:rect l="l" t="t" r="r" b="b"/>
            <a:pathLst>
              <a:path w="2809" h="1853">
                <a:moveTo>
                  <a:pt x="2561" y="175"/>
                </a:moveTo>
                <a:cubicBezTo>
                  <a:pt x="2314" y="0"/>
                  <a:pt x="2066" y="106"/>
                  <a:pt x="1768" y="166"/>
                </a:cubicBezTo>
                <a:cubicBezTo>
                  <a:pt x="1470" y="226"/>
                  <a:pt x="1056" y="194"/>
                  <a:pt x="759" y="113"/>
                </a:cubicBezTo>
                <a:cubicBezTo>
                  <a:pt x="461" y="31"/>
                  <a:pt x="210" y="188"/>
                  <a:pt x="210" y="188"/>
                </a:cubicBezTo>
                <a:cubicBezTo>
                  <a:pt x="69" y="326"/>
                  <a:pt x="0" y="442"/>
                  <a:pt x="53" y="624"/>
                </a:cubicBezTo>
                <a:cubicBezTo>
                  <a:pt x="107" y="805"/>
                  <a:pt x="122" y="918"/>
                  <a:pt x="91" y="1122"/>
                </a:cubicBezTo>
                <a:cubicBezTo>
                  <a:pt x="60" y="1326"/>
                  <a:pt x="0" y="1445"/>
                  <a:pt x="194" y="1649"/>
                </a:cubicBezTo>
                <a:cubicBezTo>
                  <a:pt x="389" y="1853"/>
                  <a:pt x="755" y="1815"/>
                  <a:pt x="991" y="1780"/>
                </a:cubicBezTo>
                <a:cubicBezTo>
                  <a:pt x="1226" y="1746"/>
                  <a:pt x="1429" y="1715"/>
                  <a:pt x="1636" y="1737"/>
                </a:cubicBezTo>
                <a:cubicBezTo>
                  <a:pt x="1843" y="1758"/>
                  <a:pt x="2198" y="1827"/>
                  <a:pt x="2439" y="1746"/>
                </a:cubicBezTo>
                <a:cubicBezTo>
                  <a:pt x="2730" y="1646"/>
                  <a:pt x="2740" y="1395"/>
                  <a:pt x="2696" y="1273"/>
                </a:cubicBezTo>
                <a:cubicBezTo>
                  <a:pt x="2652" y="1150"/>
                  <a:pt x="2630" y="1041"/>
                  <a:pt x="2683" y="834"/>
                </a:cubicBezTo>
                <a:cubicBezTo>
                  <a:pt x="2737" y="627"/>
                  <a:pt x="2809" y="351"/>
                  <a:pt x="2561" y="175"/>
                </a:cubicBezTo>
              </a:path>
            </a:pathLst>
          </a:custGeom>
          <a:solidFill>
            <a:srgbClr val="bd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MH_Other_2"/>
          <p:cNvSpPr/>
          <p:nvPr/>
        </p:nvSpPr>
        <p:spPr>
          <a:xfrm>
            <a:off x="133200" y="2173320"/>
            <a:ext cx="17352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MH_SubTitle_2"/>
          <p:cNvSpPr/>
          <p:nvPr/>
        </p:nvSpPr>
        <p:spPr>
          <a:xfrm>
            <a:off x="5437080" y="2208240"/>
            <a:ext cx="27370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商交易额增加迅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互联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+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各行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MH_Other_4"/>
          <p:cNvSpPr/>
          <p:nvPr/>
        </p:nvSpPr>
        <p:spPr>
          <a:xfrm rot="10740000">
            <a:off x="8315280" y="2501640"/>
            <a:ext cx="7207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MH_SubTitle_3"/>
          <p:cNvSpPr/>
          <p:nvPr/>
        </p:nvSpPr>
        <p:spPr>
          <a:xfrm>
            <a:off x="2846520" y="4438800"/>
            <a:ext cx="3384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供销社实体网络需要升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三农对电商有现实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H_Other_6"/>
          <p:cNvSpPr/>
          <p:nvPr/>
        </p:nvSpPr>
        <p:spPr>
          <a:xfrm>
            <a:off x="1892160" y="4768920"/>
            <a:ext cx="1733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149400"/>
            <a:ext cx="788688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3b40d"/>
                </a:solidFill>
                <a:latin typeface="Arial Black"/>
              </a:rPr>
              <a:t>电子商务</a:t>
            </a:r>
            <a:r>
              <a:rPr b="1" lang="zh-CN" sz="4800" spc="-1" strike="noStrike">
                <a:solidFill>
                  <a:srgbClr val="3f4143"/>
                </a:solidFill>
                <a:latin typeface="Arial Black"/>
                <a:ea typeface="宋体"/>
              </a:rPr>
              <a:t>—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  <a:ea typeface="华文行楷"/>
              </a:rPr>
              <a:t>趋势</a:t>
            </a:r>
            <a:endParaRPr b="1" lang="en-US" sz="48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90" name="MH_Other_16"/>
          <p:cNvSpPr/>
          <p:nvPr/>
        </p:nvSpPr>
        <p:spPr>
          <a:xfrm>
            <a:off x="828720" y="1844640"/>
            <a:ext cx="3095640" cy="1944720"/>
          </a:xfrm>
          <a:custGeom>
            <a:avLst/>
            <a:gdLst/>
            <a:ahLst/>
            <a:rect l="l" t="t" r="r" b="b"/>
            <a:pathLst>
              <a:path w="2809" h="1853">
                <a:moveTo>
                  <a:pt x="2561" y="175"/>
                </a:moveTo>
                <a:cubicBezTo>
                  <a:pt x="2314" y="0"/>
                  <a:pt x="2066" y="106"/>
                  <a:pt x="1768" y="166"/>
                </a:cubicBezTo>
                <a:cubicBezTo>
                  <a:pt x="1470" y="226"/>
                  <a:pt x="1056" y="194"/>
                  <a:pt x="759" y="113"/>
                </a:cubicBezTo>
                <a:cubicBezTo>
                  <a:pt x="461" y="31"/>
                  <a:pt x="210" y="188"/>
                  <a:pt x="210" y="188"/>
                </a:cubicBezTo>
                <a:cubicBezTo>
                  <a:pt x="69" y="326"/>
                  <a:pt x="0" y="442"/>
                  <a:pt x="53" y="624"/>
                </a:cubicBezTo>
                <a:cubicBezTo>
                  <a:pt x="107" y="805"/>
                  <a:pt x="122" y="918"/>
                  <a:pt x="91" y="1122"/>
                </a:cubicBezTo>
                <a:cubicBezTo>
                  <a:pt x="60" y="1326"/>
                  <a:pt x="0" y="1445"/>
                  <a:pt x="194" y="1649"/>
                </a:cubicBezTo>
                <a:cubicBezTo>
                  <a:pt x="389" y="1853"/>
                  <a:pt x="755" y="1815"/>
                  <a:pt x="991" y="1780"/>
                </a:cubicBezTo>
                <a:cubicBezTo>
                  <a:pt x="1226" y="1746"/>
                  <a:pt x="1429" y="1715"/>
                  <a:pt x="1636" y="1737"/>
                </a:cubicBezTo>
                <a:cubicBezTo>
                  <a:pt x="1843" y="1758"/>
                  <a:pt x="2198" y="1827"/>
                  <a:pt x="2439" y="1746"/>
                </a:cubicBezTo>
                <a:cubicBezTo>
                  <a:pt x="2730" y="1646"/>
                  <a:pt x="2740" y="1395"/>
                  <a:pt x="2696" y="1273"/>
                </a:cubicBezTo>
                <a:cubicBezTo>
                  <a:pt x="2652" y="1150"/>
                  <a:pt x="2630" y="1041"/>
                  <a:pt x="2683" y="834"/>
                </a:cubicBezTo>
                <a:cubicBezTo>
                  <a:pt x="2737" y="627"/>
                  <a:pt x="2809" y="351"/>
                  <a:pt x="2561" y="175"/>
                </a:cubicBezTo>
              </a:path>
            </a:pathLst>
          </a:custGeom>
          <a:solidFill>
            <a:srgbClr val="bd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MH_SubTitle_2"/>
          <p:cNvSpPr/>
          <p:nvPr/>
        </p:nvSpPr>
        <p:spPr>
          <a:xfrm>
            <a:off x="973080" y="2203560"/>
            <a:ext cx="27352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中发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1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总社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省政府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9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MH_Text_1"/>
          <p:cNvSpPr/>
          <p:nvPr/>
        </p:nvSpPr>
        <p:spPr>
          <a:xfrm>
            <a:off x="828720" y="4437000"/>
            <a:ext cx="2581200" cy="1873440"/>
          </a:xfrm>
          <a:prstGeom prst="rect">
            <a:avLst/>
          </a:prstGeom>
          <a:solidFill>
            <a:srgbClr val="feffff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H_SubTitle_1"/>
          <p:cNvSpPr/>
          <p:nvPr/>
        </p:nvSpPr>
        <p:spPr>
          <a:xfrm>
            <a:off x="3421080" y="1415880"/>
            <a:ext cx="1608120" cy="158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MH_Other_2"/>
          <p:cNvSpPr/>
          <p:nvPr/>
        </p:nvSpPr>
        <p:spPr>
          <a:xfrm>
            <a:off x="4859280" y="1343160"/>
            <a:ext cx="399960" cy="287280"/>
          </a:xfrm>
          <a:custGeom>
            <a:avLst/>
            <a:gdLst>
              <a:gd name="textAreaLeft" fmla="*/ 0 w 399960"/>
              <a:gd name="textAreaRight" fmla="*/ 400320 w 399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6160" y="190440"/>
            <a:ext cx="691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b40d"/>
                </a:solidFill>
                <a:latin typeface="Arial Black"/>
              </a:rPr>
              <a:t>电子商务</a:t>
            </a:r>
            <a:r>
              <a:rPr b="1" lang="zh-CN" sz="4400" spc="-1" strike="noStrike">
                <a:solidFill>
                  <a:srgbClr val="3f4143"/>
                </a:solidFill>
                <a:latin typeface="Arial Black"/>
              </a:rPr>
              <a:t>—</a:t>
            </a:r>
            <a:r>
              <a:rPr b="1" lang="zh-CN" sz="4400" spc="-1" strike="noStrike">
                <a:solidFill>
                  <a:srgbClr val="ff5050"/>
                </a:solidFill>
                <a:latin typeface="Arial Black"/>
                <a:ea typeface="华文行楷"/>
              </a:rPr>
              <a:t>投资</a:t>
            </a:r>
            <a:endParaRPr b="1" lang="en-US" sz="44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474920" y="1198440"/>
            <a:ext cx="162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各级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1200240"/>
            <a:ext cx="1627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政策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MH_SubTitle_1"/>
          <p:cNvSpPr/>
          <p:nvPr/>
        </p:nvSpPr>
        <p:spPr>
          <a:xfrm>
            <a:off x="3421080" y="2208240"/>
            <a:ext cx="1608120" cy="158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1990800"/>
            <a:ext cx="187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供销社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1992240"/>
            <a:ext cx="162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发展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MH_Other_2"/>
          <p:cNvSpPr/>
          <p:nvPr/>
        </p:nvSpPr>
        <p:spPr>
          <a:xfrm>
            <a:off x="4843440" y="2116080"/>
            <a:ext cx="398520" cy="287280"/>
          </a:xfrm>
          <a:custGeom>
            <a:avLst/>
            <a:gdLst>
              <a:gd name="textAreaLeft" fmla="*/ 0 w 398520"/>
              <a:gd name="textAreaRight" fmla="*/ 398880 w 3985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MH_SubTitle_1"/>
          <p:cNvSpPr/>
          <p:nvPr/>
        </p:nvSpPr>
        <p:spPr>
          <a:xfrm>
            <a:off x="3421080" y="3000240"/>
            <a:ext cx="1608120" cy="158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MH_Other_2"/>
          <p:cNvSpPr/>
          <p:nvPr/>
        </p:nvSpPr>
        <p:spPr>
          <a:xfrm>
            <a:off x="4859280" y="2927520"/>
            <a:ext cx="399960" cy="287280"/>
          </a:xfrm>
          <a:custGeom>
            <a:avLst/>
            <a:gdLst>
              <a:gd name="textAreaLeft" fmla="*/ 0 w 399960"/>
              <a:gd name="textAreaRight" fmla="*/ 400320 w 399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2784600"/>
            <a:ext cx="191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一把手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2784600"/>
            <a:ext cx="1627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工作力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MH_SubTitle_1"/>
          <p:cNvSpPr/>
          <p:nvPr/>
        </p:nvSpPr>
        <p:spPr>
          <a:xfrm>
            <a:off x="3403440" y="3772080"/>
            <a:ext cx="1609920" cy="16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H_Other_2"/>
          <p:cNvSpPr/>
          <p:nvPr/>
        </p:nvSpPr>
        <p:spPr>
          <a:xfrm>
            <a:off x="4843440" y="3700440"/>
            <a:ext cx="398520" cy="287280"/>
          </a:xfrm>
          <a:custGeom>
            <a:avLst/>
            <a:gdLst>
              <a:gd name="textAreaLeft" fmla="*/ 0 w 398520"/>
              <a:gd name="textAreaRight" fmla="*/ 398880 w 3985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71440" y="3556080"/>
            <a:ext cx="191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自身实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91080" y="3556080"/>
            <a:ext cx="162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投资规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勾3 510"/>
          <p:cNvSpPr/>
          <p:nvPr/>
        </p:nvSpPr>
        <p:spPr>
          <a:xfrm>
            <a:off x="1338120" y="4576680"/>
            <a:ext cx="432000" cy="28728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MH_Text_1"/>
          <p:cNvSpPr/>
          <p:nvPr/>
        </p:nvSpPr>
        <p:spPr>
          <a:xfrm>
            <a:off x="1754280" y="4419720"/>
            <a:ext cx="13050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可盈利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勾3 510"/>
          <p:cNvSpPr/>
          <p:nvPr/>
        </p:nvSpPr>
        <p:spPr>
          <a:xfrm>
            <a:off x="1306440" y="5853240"/>
            <a:ext cx="447840" cy="28728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MH_Text_1"/>
          <p:cNvSpPr/>
          <p:nvPr/>
        </p:nvSpPr>
        <p:spPr>
          <a:xfrm>
            <a:off x="1763640" y="5695920"/>
            <a:ext cx="1368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可持续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勾3 510"/>
          <p:cNvSpPr/>
          <p:nvPr/>
        </p:nvSpPr>
        <p:spPr>
          <a:xfrm>
            <a:off x="1320840" y="5207040"/>
            <a:ext cx="433440" cy="28728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MH_Text_1"/>
          <p:cNvSpPr/>
          <p:nvPr/>
        </p:nvSpPr>
        <p:spPr>
          <a:xfrm>
            <a:off x="1763640" y="5013360"/>
            <a:ext cx="13226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可控制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MH_Text_1"/>
          <p:cNvSpPr/>
          <p:nvPr/>
        </p:nvSpPr>
        <p:spPr>
          <a:xfrm>
            <a:off x="5508720" y="4437000"/>
            <a:ext cx="2581200" cy="1873440"/>
          </a:xfrm>
          <a:prstGeom prst="rect">
            <a:avLst/>
          </a:prstGeom>
          <a:solidFill>
            <a:srgbClr val="feffff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2760" y="42958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75480" y="492444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75480" y="557064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MH_Text_1"/>
          <p:cNvSpPr/>
          <p:nvPr/>
        </p:nvSpPr>
        <p:spPr>
          <a:xfrm>
            <a:off x="6400800" y="4403880"/>
            <a:ext cx="13064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政绩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MH_Text_1"/>
          <p:cNvSpPr/>
          <p:nvPr/>
        </p:nvSpPr>
        <p:spPr>
          <a:xfrm>
            <a:off x="6384960" y="5032440"/>
            <a:ext cx="1305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任务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MH_Text_1"/>
          <p:cNvSpPr/>
          <p:nvPr/>
        </p:nvSpPr>
        <p:spPr>
          <a:xfrm>
            <a:off x="6384960" y="5678640"/>
            <a:ext cx="13050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烧钱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MH_Other_1"/>
          <p:cNvSpPr/>
          <p:nvPr/>
        </p:nvSpPr>
        <p:spPr>
          <a:xfrm>
            <a:off x="2963880" y="2049480"/>
            <a:ext cx="1582560" cy="158256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人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MH_Other_2"/>
          <p:cNvSpPr/>
          <p:nvPr/>
        </p:nvSpPr>
        <p:spPr>
          <a:xfrm>
            <a:off x="4667400" y="2049480"/>
            <a:ext cx="1584000" cy="158256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H_Other_3"/>
          <p:cNvSpPr/>
          <p:nvPr/>
        </p:nvSpPr>
        <p:spPr>
          <a:xfrm>
            <a:off x="4667400" y="3747960"/>
            <a:ext cx="1584000" cy="158292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财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H_Other_4"/>
          <p:cNvSpPr/>
          <p:nvPr/>
        </p:nvSpPr>
        <p:spPr>
          <a:xfrm flipH="1">
            <a:off x="2963880" y="3747960"/>
            <a:ext cx="1582560" cy="158292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体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MH_Title_1"/>
          <p:cNvSpPr/>
          <p:nvPr/>
        </p:nvSpPr>
        <p:spPr>
          <a:xfrm>
            <a:off x="3774960" y="2865600"/>
            <a:ext cx="1650960" cy="16491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7e8286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4143"/>
                </a:solidFill>
                <a:latin typeface="微软雅黑"/>
                <a:ea typeface="微软雅黑"/>
              </a:rPr>
              <a:t>电子商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Other_5"/>
          <p:cNvSpPr/>
          <p:nvPr/>
        </p:nvSpPr>
        <p:spPr>
          <a:xfrm>
            <a:off x="822240" y="2287440"/>
            <a:ext cx="2124000" cy="46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Text_2"/>
          <p:cNvSpPr/>
          <p:nvPr/>
        </p:nvSpPr>
        <p:spPr>
          <a:xfrm>
            <a:off x="725400" y="4762440"/>
            <a:ext cx="233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有控制力，股权多元，企业架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H_SubTitle_2"/>
          <p:cNvSpPr/>
          <p:nvPr/>
        </p:nvSpPr>
        <p:spPr>
          <a:xfrm>
            <a:off x="725400" y="4329000"/>
            <a:ext cx="21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组织制度决定成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H_Other_6"/>
          <p:cNvSpPr/>
          <p:nvPr/>
        </p:nvSpPr>
        <p:spPr>
          <a:xfrm>
            <a:off x="822240" y="4710240"/>
            <a:ext cx="2124000" cy="46080"/>
          </a:xfrm>
          <a:prstGeom prst="rect">
            <a:avLst/>
          </a:prstGeom>
          <a:solidFill>
            <a:srgbClr val="d4d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H_Text_4"/>
          <p:cNvSpPr/>
          <p:nvPr/>
        </p:nvSpPr>
        <p:spPr>
          <a:xfrm>
            <a:off x="6168960" y="4762440"/>
            <a:ext cx="25084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运行硬件，专合社产品，物流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H_SubTitle_4"/>
          <p:cNvSpPr/>
          <p:nvPr/>
        </p:nvSpPr>
        <p:spPr>
          <a:xfrm>
            <a:off x="6168960" y="4114800"/>
            <a:ext cx="22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只要你来，供销社提供你当老板的一切条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H_Other_7"/>
          <p:cNvSpPr/>
          <p:nvPr/>
        </p:nvSpPr>
        <p:spPr>
          <a:xfrm>
            <a:off x="6259680" y="4710240"/>
            <a:ext cx="2124000" cy="46080"/>
          </a:xfrm>
          <a:prstGeom prst="rect">
            <a:avLst/>
          </a:prstGeom>
          <a:solidFill>
            <a:srgbClr val="d4d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H_Text_3"/>
          <p:cNvSpPr/>
          <p:nvPr/>
        </p:nvSpPr>
        <p:spPr>
          <a:xfrm>
            <a:off x="6168960" y="2346480"/>
            <a:ext cx="224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企业运作，用人灵活，竞争协作，企业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H_SubTitle_3"/>
          <p:cNvSpPr/>
          <p:nvPr/>
        </p:nvSpPr>
        <p:spPr>
          <a:xfrm>
            <a:off x="6168960" y="1914480"/>
            <a:ext cx="21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灵活多样，内生动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MH_Other_8"/>
          <p:cNvSpPr/>
          <p:nvPr/>
        </p:nvSpPr>
        <p:spPr>
          <a:xfrm>
            <a:off x="6267600" y="2287440"/>
            <a:ext cx="2124000" cy="46080"/>
          </a:xfrm>
          <a:prstGeom prst="rect">
            <a:avLst/>
          </a:prstGeom>
          <a:solidFill>
            <a:srgbClr val="d4d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MH_Text_1"/>
          <p:cNvSpPr/>
          <p:nvPr/>
        </p:nvSpPr>
        <p:spPr>
          <a:xfrm>
            <a:off x="725400" y="2346480"/>
            <a:ext cx="2228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合作者、股东、操作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MH_PageTitle"/>
          <p:cNvSpPr/>
          <p:nvPr/>
        </p:nvSpPr>
        <p:spPr>
          <a:xfrm>
            <a:off x="1046160" y="190440"/>
            <a:ext cx="691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</a:t>
            </a:r>
            <a:r>
              <a:rPr b="1" lang="zh-CN" sz="4400" spc="-1" strike="noStrike">
                <a:solidFill>
                  <a:srgbClr val="3f4143"/>
                </a:solidFill>
                <a:latin typeface="Arial Black"/>
                <a:ea typeface="微软雅黑"/>
              </a:rPr>
              <a:t>—</a:t>
            </a:r>
            <a:r>
              <a:rPr b="1" lang="zh-CN" sz="4400" spc="-1" strike="noStrike">
                <a:solidFill>
                  <a:srgbClr val="ff5050"/>
                </a:solidFill>
                <a:latin typeface="Arial Black"/>
                <a:ea typeface="华文行楷"/>
              </a:rPr>
              <a:t>开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H_SubTitle_3"/>
          <p:cNvSpPr/>
          <p:nvPr/>
        </p:nvSpPr>
        <p:spPr>
          <a:xfrm>
            <a:off x="698400" y="189864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多寻合作方，少招打工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MH_PageTitle"/>
          <p:cNvSpPr/>
          <p:nvPr/>
        </p:nvSpPr>
        <p:spPr>
          <a:xfrm>
            <a:off x="1046160" y="190440"/>
            <a:ext cx="691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</a:t>
            </a:r>
            <a:r>
              <a:rPr b="1" lang="zh-CN" sz="4400" spc="-1" strike="noStrike">
                <a:solidFill>
                  <a:srgbClr val="3f4143"/>
                </a:solidFill>
                <a:latin typeface="Arial Black"/>
                <a:ea typeface="微软雅黑"/>
              </a:rPr>
              <a:t>—</a:t>
            </a:r>
            <a:r>
              <a:rPr b="1" lang="zh-CN" sz="4400" spc="-1" strike="noStrike">
                <a:solidFill>
                  <a:srgbClr val="ff5050"/>
                </a:solidFill>
                <a:latin typeface="Arial Black"/>
                <a:ea typeface="华文行楷"/>
              </a:rPr>
              <a:t>关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26"/>
          <p:cNvSpPr/>
          <p:nvPr/>
        </p:nvSpPr>
        <p:spPr>
          <a:xfrm>
            <a:off x="366840" y="955800"/>
            <a:ext cx="844560" cy="971280"/>
          </a:xfrm>
          <a:custGeom>
            <a:avLst/>
            <a:gdLst/>
            <a:ahLst/>
            <a:rect l="l" t="t" r="r" b="b"/>
            <a:pathLst>
              <a:path w="844684" h="972108">
                <a:moveTo>
                  <a:pt x="486054" y="0"/>
                </a:moveTo>
                <a:cubicBezTo>
                  <a:pt x="620274" y="0"/>
                  <a:pt x="741788" y="54404"/>
                  <a:pt x="829746" y="142362"/>
                </a:cubicBezTo>
                <a:lnTo>
                  <a:pt x="844684" y="160467"/>
                </a:lnTo>
                <a:lnTo>
                  <a:pt x="832222" y="150184"/>
                </a:lnTo>
                <a:cubicBezTo>
                  <a:pt x="767576" y="106511"/>
                  <a:pt x="689645" y="81009"/>
                  <a:pt x="605757" y="81009"/>
                </a:cubicBezTo>
                <a:cubicBezTo>
                  <a:pt x="382057" y="81009"/>
                  <a:pt x="200712" y="262354"/>
                  <a:pt x="200712" y="486054"/>
                </a:cubicBezTo>
                <a:cubicBezTo>
                  <a:pt x="200712" y="709754"/>
                  <a:pt x="382057" y="891099"/>
                  <a:pt x="605757" y="891099"/>
                </a:cubicBezTo>
                <a:cubicBezTo>
                  <a:pt x="689645" y="891099"/>
                  <a:pt x="767576" y="865597"/>
                  <a:pt x="832222" y="821924"/>
                </a:cubicBezTo>
                <a:lnTo>
                  <a:pt x="844684" y="811641"/>
                </a:lnTo>
                <a:lnTo>
                  <a:pt x="829746" y="829746"/>
                </a:lnTo>
                <a:cubicBezTo>
                  <a:pt x="741788" y="917705"/>
                  <a:pt x="620274" y="972108"/>
                  <a:pt x="486054" y="972108"/>
                </a:cubicBezTo>
                <a:cubicBezTo>
                  <a:pt x="217614" y="972108"/>
                  <a:pt x="0" y="754494"/>
                  <a:pt x="0" y="486054"/>
                </a:cubicBezTo>
                <a:cubicBezTo>
                  <a:pt x="0" y="217614"/>
                  <a:pt x="217614" y="0"/>
                  <a:pt x="486054" y="0"/>
                </a:cubicBezTo>
                <a:close/>
              </a:path>
            </a:pathLst>
          </a:custGeom>
          <a:solidFill>
            <a:srgbClr val="83b4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圆角矩形 27"/>
          <p:cNvSpPr/>
          <p:nvPr/>
        </p:nvSpPr>
        <p:spPr>
          <a:xfrm>
            <a:off x="973080" y="1139760"/>
            <a:ext cx="2590920" cy="595440"/>
          </a:xfrm>
          <a:prstGeom prst="roundRect">
            <a:avLst>
              <a:gd name="adj" fmla="val 50000"/>
            </a:avLst>
          </a:prstGeom>
          <a:solidFill>
            <a:srgbClr val="e0f89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供销社优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8"/>
          <p:cNvSpPr/>
          <p:nvPr/>
        </p:nvSpPr>
        <p:spPr>
          <a:xfrm>
            <a:off x="689040" y="1117440"/>
            <a:ext cx="650880" cy="650880"/>
          </a:xfrm>
          <a:prstGeom prst="ellips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57680" y="1008000"/>
            <a:ext cx="2111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自有人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政府支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6"/>
          <p:cNvSpPr/>
          <p:nvPr/>
        </p:nvSpPr>
        <p:spPr>
          <a:xfrm>
            <a:off x="422280" y="3594240"/>
            <a:ext cx="836640" cy="971280"/>
          </a:xfrm>
          <a:custGeom>
            <a:avLst/>
            <a:gdLst/>
            <a:ahLst/>
            <a:rect l="l" t="t" r="r" b="b"/>
            <a:pathLst>
              <a:path w="844684" h="972108">
                <a:moveTo>
                  <a:pt x="486054" y="0"/>
                </a:moveTo>
                <a:cubicBezTo>
                  <a:pt x="620274" y="0"/>
                  <a:pt x="741788" y="54404"/>
                  <a:pt x="829746" y="142362"/>
                </a:cubicBezTo>
                <a:lnTo>
                  <a:pt x="844684" y="160467"/>
                </a:lnTo>
                <a:lnTo>
                  <a:pt x="832222" y="150184"/>
                </a:lnTo>
                <a:cubicBezTo>
                  <a:pt x="767576" y="106511"/>
                  <a:pt x="689645" y="81009"/>
                  <a:pt x="605757" y="81009"/>
                </a:cubicBezTo>
                <a:cubicBezTo>
                  <a:pt x="382057" y="81009"/>
                  <a:pt x="200712" y="262354"/>
                  <a:pt x="200712" y="486054"/>
                </a:cubicBezTo>
                <a:cubicBezTo>
                  <a:pt x="200712" y="709754"/>
                  <a:pt x="382057" y="891099"/>
                  <a:pt x="605757" y="891099"/>
                </a:cubicBezTo>
                <a:cubicBezTo>
                  <a:pt x="689645" y="891099"/>
                  <a:pt x="767576" y="865597"/>
                  <a:pt x="832222" y="821924"/>
                </a:cubicBezTo>
                <a:lnTo>
                  <a:pt x="844684" y="811641"/>
                </a:lnTo>
                <a:lnTo>
                  <a:pt x="829746" y="829746"/>
                </a:lnTo>
                <a:cubicBezTo>
                  <a:pt x="741788" y="917705"/>
                  <a:pt x="620274" y="972108"/>
                  <a:pt x="486054" y="972108"/>
                </a:cubicBezTo>
                <a:cubicBezTo>
                  <a:pt x="217614" y="972108"/>
                  <a:pt x="0" y="754494"/>
                  <a:pt x="0" y="486054"/>
                </a:cubicBezTo>
                <a:cubicBezTo>
                  <a:pt x="0" y="217614"/>
                  <a:pt x="217614" y="0"/>
                  <a:pt x="486054" y="0"/>
                </a:cubicBezTo>
                <a:close/>
              </a:path>
            </a:pathLst>
          </a:custGeom>
          <a:solidFill>
            <a:srgbClr val="83b4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27"/>
          <p:cNvSpPr/>
          <p:nvPr/>
        </p:nvSpPr>
        <p:spPr>
          <a:xfrm>
            <a:off x="1028880" y="3778200"/>
            <a:ext cx="2590560" cy="595440"/>
          </a:xfrm>
          <a:prstGeom prst="roundRect">
            <a:avLst>
              <a:gd name="adj" fmla="val 50000"/>
            </a:avLst>
          </a:prstGeom>
          <a:solidFill>
            <a:srgbClr val="e0f89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物流公司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28"/>
          <p:cNvSpPr/>
          <p:nvPr/>
        </p:nvSpPr>
        <p:spPr>
          <a:xfrm>
            <a:off x="744480" y="3755880"/>
            <a:ext cx="649440" cy="650880"/>
          </a:xfrm>
          <a:prstGeom prst="ellips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83160" y="3746520"/>
            <a:ext cx="3338280" cy="10090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农产品进城最前一公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日用工业品进村最后一公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70920" y="3757680"/>
            <a:ext cx="1622160" cy="10090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农村最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利润最可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6"/>
          <p:cNvSpPr/>
          <p:nvPr/>
        </p:nvSpPr>
        <p:spPr>
          <a:xfrm>
            <a:off x="406440" y="5514840"/>
            <a:ext cx="836640" cy="971640"/>
          </a:xfrm>
          <a:custGeom>
            <a:avLst/>
            <a:gdLst/>
            <a:ahLst/>
            <a:rect l="l" t="t" r="r" b="b"/>
            <a:pathLst>
              <a:path w="844684" h="972108">
                <a:moveTo>
                  <a:pt x="486054" y="0"/>
                </a:moveTo>
                <a:cubicBezTo>
                  <a:pt x="620274" y="0"/>
                  <a:pt x="741788" y="54404"/>
                  <a:pt x="829746" y="142362"/>
                </a:cubicBezTo>
                <a:lnTo>
                  <a:pt x="844684" y="160467"/>
                </a:lnTo>
                <a:lnTo>
                  <a:pt x="832222" y="150184"/>
                </a:lnTo>
                <a:cubicBezTo>
                  <a:pt x="767576" y="106511"/>
                  <a:pt x="689645" y="81009"/>
                  <a:pt x="605757" y="81009"/>
                </a:cubicBezTo>
                <a:cubicBezTo>
                  <a:pt x="382057" y="81009"/>
                  <a:pt x="200712" y="262354"/>
                  <a:pt x="200712" y="486054"/>
                </a:cubicBezTo>
                <a:cubicBezTo>
                  <a:pt x="200712" y="709754"/>
                  <a:pt x="382057" y="891099"/>
                  <a:pt x="605757" y="891099"/>
                </a:cubicBezTo>
                <a:cubicBezTo>
                  <a:pt x="689645" y="891099"/>
                  <a:pt x="767576" y="865597"/>
                  <a:pt x="832222" y="821924"/>
                </a:cubicBezTo>
                <a:lnTo>
                  <a:pt x="844684" y="811641"/>
                </a:lnTo>
                <a:lnTo>
                  <a:pt x="829746" y="829746"/>
                </a:lnTo>
                <a:cubicBezTo>
                  <a:pt x="741788" y="917705"/>
                  <a:pt x="620274" y="972108"/>
                  <a:pt x="486054" y="972108"/>
                </a:cubicBezTo>
                <a:cubicBezTo>
                  <a:pt x="217614" y="972108"/>
                  <a:pt x="0" y="754494"/>
                  <a:pt x="0" y="486054"/>
                </a:cubicBezTo>
                <a:cubicBezTo>
                  <a:pt x="0" y="217614"/>
                  <a:pt x="217614" y="0"/>
                  <a:pt x="486054" y="0"/>
                </a:cubicBezTo>
                <a:close/>
              </a:path>
            </a:pathLst>
          </a:custGeom>
          <a:solidFill>
            <a:srgbClr val="83b4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27"/>
          <p:cNvSpPr/>
          <p:nvPr/>
        </p:nvSpPr>
        <p:spPr>
          <a:xfrm>
            <a:off x="1012680" y="5699160"/>
            <a:ext cx="2590920" cy="595440"/>
          </a:xfrm>
          <a:prstGeom prst="roundRect">
            <a:avLst>
              <a:gd name="adj" fmla="val 50000"/>
            </a:avLst>
          </a:prstGeom>
          <a:solidFill>
            <a:srgbClr val="e0f89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下半年任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28"/>
          <p:cNvSpPr/>
          <p:nvPr/>
        </p:nvSpPr>
        <p:spPr>
          <a:xfrm>
            <a:off x="727200" y="5676840"/>
            <a:ext cx="649080" cy="650880"/>
          </a:xfrm>
          <a:prstGeom prst="ellips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62360" y="5510160"/>
            <a:ext cx="224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对接总社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电子商务交易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MH_Text_1"/>
          <p:cNvSpPr/>
          <p:nvPr/>
        </p:nvSpPr>
        <p:spPr>
          <a:xfrm>
            <a:off x="1260360" y="1413000"/>
            <a:ext cx="2502000" cy="4305240"/>
          </a:xfrm>
          <a:custGeom>
            <a:avLst/>
            <a:gdLst>
              <a:gd name="textAreaLeft" fmla="*/ 51120 w 2502000"/>
              <a:gd name="textAreaRight" fmla="*/ 2450880 w 2502000"/>
              <a:gd name="textAreaTop" fmla="*/ 51120 h 4305240"/>
              <a:gd name="textAreaBottom" fmla="*/ 4254120 h 4305240"/>
            </a:gdLst>
            <a:ahLst/>
            <a:rect l="textAreaLeft" t="textAreaTop" r="textAreaRight" b="textAreaBottom"/>
            <a:pathLst>
              <a:path w="21600" h="37165">
                <a:moveTo>
                  <a:pt x="1510" y="0"/>
                </a:moveTo>
                <a:arcTo wR="1510" hR="1510" stAng="16200000" swAng="-5400000"/>
                <a:lnTo>
                  <a:pt x="0" y="35655"/>
                </a:lnTo>
                <a:arcTo wR="1510" hR="1510" stAng="10800000" swAng="-5400000"/>
                <a:lnTo>
                  <a:pt x="20090" y="37165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发展电商的依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服务三农的抓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转型升级的路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现代销售的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640" y="164880"/>
            <a:ext cx="8929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宋体"/>
              </a:rPr>
              <a:t>电子商务——</a:t>
            </a: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培育一个市场主体</a:t>
            </a: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华文行楷"/>
              </a:rPr>
              <a:t>电商公司</a:t>
            </a: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257" name="MH_Text_2"/>
          <p:cNvSpPr/>
          <p:nvPr/>
        </p:nvSpPr>
        <p:spPr>
          <a:xfrm>
            <a:off x="5221440" y="1413000"/>
            <a:ext cx="2519280" cy="4305240"/>
          </a:xfrm>
          <a:custGeom>
            <a:avLst/>
            <a:gdLst>
              <a:gd name="textAreaLeft" fmla="*/ 51480 w 2519280"/>
              <a:gd name="textAreaRight" fmla="*/ 2467800 w 2519280"/>
              <a:gd name="textAreaTop" fmla="*/ 51480 h 4305240"/>
              <a:gd name="textAreaBottom" fmla="*/ 4253760 h 4305240"/>
            </a:gdLst>
            <a:ahLst/>
            <a:rect l="textAreaLeft" t="textAreaTop" r="textAreaRight" b="textAreaBottom"/>
            <a:pathLst>
              <a:path w="21600" h="36910">
                <a:moveTo>
                  <a:pt x="1510" y="0"/>
                </a:moveTo>
                <a:arcTo wR="1510" hR="1510" stAng="16200000" swAng="-5400000"/>
                <a:lnTo>
                  <a:pt x="0" y="35400"/>
                </a:lnTo>
                <a:arcTo wR="1510" hR="1510" stAng="10800000" swAng="-5400000"/>
                <a:lnTo>
                  <a:pt x="20090" y="36910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治理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管理架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运营团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营销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货源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物流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MH_Other_9"/>
          <p:cNvSpPr/>
          <p:nvPr/>
        </p:nvSpPr>
        <p:spPr>
          <a:xfrm>
            <a:off x="179280" y="2924280"/>
            <a:ext cx="8785440" cy="3749400"/>
          </a:xfrm>
          <a:custGeom>
            <a:avLst/>
            <a:gdLst/>
            <a:ahLst/>
            <a:rect l="l" t="t" r="r" b="b"/>
            <a:pathLst>
              <a:path w="648072" h="400516">
                <a:moveTo>
                  <a:pt x="324036" y="0"/>
                </a:moveTo>
                <a:lnTo>
                  <a:pt x="648072" y="216024"/>
                </a:lnTo>
                <a:lnTo>
                  <a:pt x="520183" y="216024"/>
                </a:lnTo>
                <a:cubicBezTo>
                  <a:pt x="521934" y="217353"/>
                  <a:pt x="522036" y="218913"/>
                  <a:pt x="522036" y="220497"/>
                </a:cubicBezTo>
                <a:lnTo>
                  <a:pt x="522036" y="364511"/>
                </a:lnTo>
                <a:cubicBezTo>
                  <a:pt x="522036" y="384396"/>
                  <a:pt x="505916" y="400516"/>
                  <a:pt x="486031" y="400516"/>
                </a:cubicBezTo>
                <a:lnTo>
                  <a:pt x="378042" y="400516"/>
                </a:lnTo>
                <a:lnTo>
                  <a:pt x="378042" y="256516"/>
                </a:lnTo>
                <a:lnTo>
                  <a:pt x="270030" y="256516"/>
                </a:lnTo>
                <a:lnTo>
                  <a:pt x="270030" y="400516"/>
                </a:lnTo>
                <a:lnTo>
                  <a:pt x="162041" y="400516"/>
                </a:lnTo>
                <a:cubicBezTo>
                  <a:pt x="142156" y="400516"/>
                  <a:pt x="126036" y="384396"/>
                  <a:pt x="126036" y="364511"/>
                </a:cubicBezTo>
                <a:lnTo>
                  <a:pt x="126036" y="220497"/>
                </a:lnTo>
                <a:lnTo>
                  <a:pt x="127889" y="216024"/>
                </a:lnTo>
                <a:lnTo>
                  <a:pt x="0" y="216024"/>
                </a:lnTo>
                <a:lnTo>
                  <a:pt x="324036" y="0"/>
                </a:lnTo>
                <a:close/>
              </a:path>
            </a:pathLst>
          </a:custGeom>
          <a:solidFill>
            <a:srgbClr val="e0f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000" y="22320"/>
            <a:ext cx="8929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搭建一个服务平台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华文行楷"/>
              </a:rPr>
              <a:t>电子商务运营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MH_Text_3"/>
          <p:cNvSpPr/>
          <p:nvPr/>
        </p:nvSpPr>
        <p:spPr>
          <a:xfrm>
            <a:off x="896760" y="1146240"/>
            <a:ext cx="3681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名称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XX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县电子商务运营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MH_Text_3"/>
          <p:cNvSpPr/>
          <p:nvPr/>
        </p:nvSpPr>
        <p:spPr>
          <a:xfrm>
            <a:off x="880920" y="1566720"/>
            <a:ext cx="40579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规模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视要求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00m²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左右不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MH_Text_3"/>
          <p:cNvSpPr/>
          <p:nvPr/>
        </p:nvSpPr>
        <p:spPr>
          <a:xfrm>
            <a:off x="466560" y="2284560"/>
            <a:ext cx="4561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●</a:t>
            </a: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线上平台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地域性、专业性、服务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MH_Text_3"/>
          <p:cNvSpPr/>
          <p:nvPr/>
        </p:nvSpPr>
        <p:spPr>
          <a:xfrm>
            <a:off x="4429080" y="2284560"/>
            <a:ext cx="5008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●</a:t>
            </a: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实体平台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有内容、有人气、有流量、有交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44720" y="37908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X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县电子商务运营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78080" y="4686480"/>
            <a:ext cx="35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企业孵化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63720" y="4654440"/>
            <a:ext cx="351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培训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74920" y="4654440"/>
            <a:ext cx="312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创客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5360" y="4692600"/>
            <a:ext cx="35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协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1120" y="4710240"/>
            <a:ext cx="31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快递物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05480" y="4692600"/>
            <a:ext cx="31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农产品配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19840" y="4676760"/>
            <a:ext cx="31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子商务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50040" y="4676760"/>
            <a:ext cx="312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县域电商平台管理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80240" y="4676760"/>
            <a:ext cx="314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子商务招商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10440" y="4676760"/>
            <a:ext cx="31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农村物流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237960"/>
            <a:ext cx="892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组建一个电商协会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华文行楷"/>
              </a:rPr>
              <a:t>农村电子商务协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MH_Text_1"/>
          <p:cNvSpPr/>
          <p:nvPr/>
        </p:nvSpPr>
        <p:spPr>
          <a:xfrm>
            <a:off x="1187280" y="1484280"/>
            <a:ext cx="2503800" cy="4305240"/>
          </a:xfrm>
          <a:custGeom>
            <a:avLst/>
            <a:gdLst>
              <a:gd name="textAreaLeft" fmla="*/ 51120 w 2503800"/>
              <a:gd name="textAreaRight" fmla="*/ 2452680 w 2503800"/>
              <a:gd name="textAreaTop" fmla="*/ 51120 h 4305240"/>
              <a:gd name="textAreaBottom" fmla="*/ 4254120 h 4305240"/>
            </a:gdLst>
            <a:ahLst/>
            <a:rect l="textAreaLeft" t="textAreaTop" r="textAreaRight" b="textAreaBottom"/>
            <a:pathLst>
              <a:path w="21600" h="37139">
                <a:moveTo>
                  <a:pt x="1510" y="0"/>
                </a:moveTo>
                <a:arcTo wR="1510" hR="1510" stAng="16200000" swAng="-5400000"/>
                <a:lnTo>
                  <a:pt x="0" y="35629"/>
                </a:lnTo>
                <a:arcTo wR="1510" hR="1510" stAng="10800000" swAng="-5400000"/>
                <a:lnTo>
                  <a:pt x="20090" y="37139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协会作用职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牵头发起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具备社会属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具有开放心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MH_Text_2"/>
          <p:cNvSpPr/>
          <p:nvPr/>
        </p:nvSpPr>
        <p:spPr>
          <a:xfrm>
            <a:off x="5219640" y="1484280"/>
            <a:ext cx="2519280" cy="4305240"/>
          </a:xfrm>
          <a:custGeom>
            <a:avLst/>
            <a:gdLst>
              <a:gd name="textAreaLeft" fmla="*/ 51480 w 2519280"/>
              <a:gd name="textAreaRight" fmla="*/ 2467800 w 2519280"/>
              <a:gd name="textAreaTop" fmla="*/ 51480 h 4305240"/>
              <a:gd name="textAreaBottom" fmla="*/ 4253760 h 4305240"/>
            </a:gdLst>
            <a:ahLst/>
            <a:rect l="textAreaLeft" t="textAreaTop" r="textAreaRight" b="textAreaBottom"/>
            <a:pathLst>
              <a:path w="21600" h="36910">
                <a:moveTo>
                  <a:pt x="1510" y="0"/>
                </a:moveTo>
                <a:arcTo wR="1510" hR="1510" stAng="16200000" swAng="-5400000"/>
                <a:lnTo>
                  <a:pt x="0" y="35400"/>
                </a:lnTo>
                <a:arcTo wR="1510" hR="1510" stAng="10800000" swAng="-5400000"/>
                <a:lnTo>
                  <a:pt x="20090" y="36910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ff99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组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协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谈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MH_Other_1"/>
          <p:cNvSpPr/>
          <p:nvPr/>
        </p:nvSpPr>
        <p:spPr>
          <a:xfrm rot="16200000">
            <a:off x="1352520" y="2439720"/>
            <a:ext cx="2085840" cy="514440"/>
          </a:xfrm>
          <a:prstGeom prst="parallelogram">
            <a:avLst>
              <a:gd name="adj" fmla="val 1566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MH_Other_2"/>
          <p:cNvSpPr/>
          <p:nvPr/>
        </p:nvSpPr>
        <p:spPr>
          <a:xfrm>
            <a:off x="1320840" y="1479600"/>
            <a:ext cx="183960" cy="1746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MH_SubTitle_1"/>
          <p:cNvSpPr/>
          <p:nvPr/>
        </p:nvSpPr>
        <p:spPr>
          <a:xfrm>
            <a:off x="771480" y="1654200"/>
            <a:ext cx="2076480" cy="4440240"/>
          </a:xfrm>
          <a:prstGeom prst="rect">
            <a:avLst/>
          </a:prstGeom>
          <a:solidFill>
            <a:srgbClr val="feffff"/>
          </a:solidFill>
          <a:ln w="3240">
            <a:solidFill>
              <a:srgbClr val="fec306"/>
            </a:solidFill>
            <a:miter/>
          </a:ln>
          <a:effectLst>
            <a:outerShdw dist="38160" dir="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4143"/>
                </a:solidFill>
                <a:latin typeface="Arial"/>
                <a:ea typeface="微软雅黑"/>
              </a:rPr>
              <a:t>经济活动不出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代买日用工业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代卖自产农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综合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收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充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取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保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快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车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政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MH_Other_3"/>
          <p:cNvSpPr/>
          <p:nvPr/>
        </p:nvSpPr>
        <p:spPr>
          <a:xfrm>
            <a:off x="826920" y="1413000"/>
            <a:ext cx="476280" cy="614160"/>
          </a:xfrm>
          <a:prstGeom prst="pie">
            <a:avLst/>
          </a:prstGeom>
          <a:solidFill>
            <a:srgbClr val="fec306"/>
          </a:solidFill>
          <a:ln w="0">
            <a:noFill/>
          </a:ln>
          <a:effectLst>
            <a:outerShdw dist="25560" dir="108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MH_Other_5"/>
          <p:cNvSpPr/>
          <p:nvPr/>
        </p:nvSpPr>
        <p:spPr>
          <a:xfrm>
            <a:off x="4044960" y="1527120"/>
            <a:ext cx="193680" cy="19836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MH_SubTitle_2"/>
          <p:cNvSpPr/>
          <p:nvPr/>
        </p:nvSpPr>
        <p:spPr>
          <a:xfrm>
            <a:off x="3495600" y="1703520"/>
            <a:ext cx="2011320" cy="4389480"/>
          </a:xfrm>
          <a:prstGeom prst="rect">
            <a:avLst/>
          </a:prstGeom>
          <a:solidFill>
            <a:srgbClr val="feffff"/>
          </a:solidFill>
          <a:ln w="3240">
            <a:solidFill>
              <a:srgbClr val="60a7fe"/>
            </a:solidFill>
            <a:miter/>
          </a:ln>
          <a:effectLst>
            <a:outerShdw dist="38160" dir="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招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设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Other_6"/>
          <p:cNvSpPr/>
          <p:nvPr/>
        </p:nvSpPr>
        <p:spPr>
          <a:xfrm>
            <a:off x="3565440" y="1413000"/>
            <a:ext cx="501840" cy="649080"/>
          </a:xfrm>
          <a:prstGeom prst="pie">
            <a:avLst/>
          </a:prstGeom>
          <a:solidFill>
            <a:srgbClr val="5fa7fe"/>
          </a:solidFill>
          <a:ln w="0">
            <a:noFill/>
          </a:ln>
          <a:effectLst>
            <a:outerShdw dist="25560" dir="108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H_Other_8"/>
          <p:cNvSpPr/>
          <p:nvPr/>
        </p:nvSpPr>
        <p:spPr>
          <a:xfrm>
            <a:off x="6670800" y="1552680"/>
            <a:ext cx="214200" cy="20304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MH_SubTitle_3"/>
          <p:cNvSpPr/>
          <p:nvPr/>
        </p:nvSpPr>
        <p:spPr>
          <a:xfrm>
            <a:off x="6118200" y="1727280"/>
            <a:ext cx="2125800" cy="4367160"/>
          </a:xfrm>
          <a:prstGeom prst="rect">
            <a:avLst/>
          </a:prstGeom>
          <a:solidFill>
            <a:srgbClr val="feffff"/>
          </a:solidFill>
          <a:ln w="3240">
            <a:solidFill>
              <a:srgbClr val="71cc36"/>
            </a:solidFill>
            <a:miter/>
          </a:ln>
          <a:effectLst>
            <a:outerShdw dist="38160" dir="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网上供销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现代“双代店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O2O</a:t>
            </a:r>
            <a:r>
              <a:rPr b="0" lang="zh-CN" sz="1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体验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MH_Other_9"/>
          <p:cNvSpPr/>
          <p:nvPr/>
        </p:nvSpPr>
        <p:spPr>
          <a:xfrm>
            <a:off x="6186600" y="1411200"/>
            <a:ext cx="473040" cy="636840"/>
          </a:xfrm>
          <a:prstGeom prst="pie">
            <a:avLst/>
          </a:prstGeom>
          <a:solidFill>
            <a:srgbClr val="72cc36"/>
          </a:solidFill>
          <a:ln w="0">
            <a:noFill/>
          </a:ln>
          <a:effectLst>
            <a:outerShdw dist="25560" dir="108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00" y="237960"/>
            <a:ext cx="892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实施一项改造工程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华文行楷"/>
              </a:rPr>
              <a:t>电子商务服务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2:26:39Z</dcterms:created>
  <dc:creator/>
  <dc:description/>
  <cp:keywords/>
  <dc:language>en-US</dc:language>
  <cp:lastModifiedBy>微软用户</cp:lastModifiedBy>
  <dcterms:modified xsi:type="dcterms:W3CDTF">2015-08-11T09:56:53Z</dcterms:modified>
  <cp:revision>5</cp:revision>
  <dc:subject/>
  <dc:title>电  子  商  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